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A41-86E8-4BE0-B858-2643D092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126-4CD2-44EA-82B1-78E58EC2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F68-4AD7-444A-B105-D22C20AF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300-7C10-4388-B85B-34FAE2B5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842B8-698E-4C3C-8BC6-AD5C9CC5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917CD-D91A-4B05-8D74-1BB8EC7D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CFAE-90B7-464C-AF51-0B35B993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2DCFC-52CA-4083-B6FC-09404F79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D32FD-ECC6-46D9-98C5-DB2BDF41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AF50F-DED1-4250-96B5-232B7980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1A30E-F843-46DF-8C11-09DCD555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B5D-CB87-4D26-8965-E4735F2F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3AE96-CD3C-4BA8-9FA7-F3E4E67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68499-B2CE-4FD0-BD7D-8AD69728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8A4F7-9019-489E-95FD-320E3ADF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65E33-95ED-4A38-8C7B-EF9E9A67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9870E-7C92-41B1-90B2-E17950F8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9AB-6EEC-4A56-B5FB-FBD92F17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175-DA1A-45AF-8322-F080C28C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804-5A11-490C-819F-9A8DB2C6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3A5-E370-4457-A0DC-CA7F5C49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077-E41F-4827-8487-6E56817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CA6-2134-4AA3-AA80-7F273B5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E3B-6FEA-474A-91CB-BE95960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3AD5-11E5-44FF-8458-BC8F49545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758-3216-4C92-BC1F-000EE4EC7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Haley Tall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25146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gar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moderno y gra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5120" y="3505320"/>
            <a:ext cx="40384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pe you enjoy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a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grande y luj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44956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bella y mod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35812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grande y fabul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33720" y="3276720"/>
            <a:ext cx="4724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grande, lujoso, y nue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48006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ῆ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moderno y boni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40384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bonito, bello, y fabul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38102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pat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grande y estupen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3352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muy bello y boni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3434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2:01:34Z</dcterms:created>
  <dc:creator>tallmanhal</dc:creator>
  <dc:description/>
  <dc:language>en-US</dc:language>
  <cp:lastModifiedBy>tallmanhal</cp:lastModifiedBy>
  <dcterms:modified xsi:type="dcterms:W3CDTF">2013-04-03T17:38:10Z</dcterms:modified>
  <cp:revision>7</cp:revision>
  <dc:subject/>
  <dc:title>La Casa</dc:title>
</cp:coreProperties>
</file>